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D5C-4722-46BA-B518-AE741B8B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765-9B1C-4FDB-AE56-9D6C4B62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903-2044-48B9-8325-9441D679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AD2-38F4-4602-AAD5-BAD95C57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916B7-8F13-4FB2-ABEF-48737D22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06900-CC27-4CA4-949C-BC8FB9D8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BB2BF-207B-47EC-9390-E8C38E71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BE892-619E-4780-8C2B-BF31ED12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2079E-C5ED-4B63-B811-200EE6C7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2123E-8E42-4D3D-817C-4960EB4A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16C10-64B6-4D75-87A7-51F8B11A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94A-BC84-44A8-AC30-8D2ED019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7A684-FF06-428B-880B-256FB9C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7F7F5-258E-47A9-97E9-7303322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37CB3-93DB-4BC9-BB64-F2E7DBA7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F0C8D-7797-4211-857A-1E42426B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DB807-86CA-4230-A8CB-FADDAD41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ACF-270F-4A7C-B67B-C10C516E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232-AA02-4FE5-84B2-DC45CE38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206-840A-4660-8520-ADA41E5C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846-B10A-4F87-95C4-53F9E85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CBE-E303-4DE6-9227-120EF8BB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155-F355-4D47-96F2-F9EC3B8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401-75A4-427A-B612-E06C2C4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639C-776C-48BE-8865-EAA2646610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14DA-556A-4002-AB52-4F621B2431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3280" y="3573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Angélica/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mic Sans MS"/>
              </a:rPr>
              <a:t>Divulgação do Curso para os Profes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17492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16360" y="278136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ós a capacitação dos professores, os mesmos poderão desenvolver projetos com seus alu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44276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Capacitação dos Professo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Avaliaçã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avaliação dar-se-á por meio da análise  do desempenho e do envolvimento do professor com a nova ferramen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 professores multiplicadores avaliarão a  qualidade e o aproveitamento do projeto elaborado pelo professor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Bibliografi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inclusaodigital.gov.br/inclu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espacoacademico.com.b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c600"/>
                </a:solidFill>
                <a:latin typeface="Tahoma"/>
              </a:rPr>
              <a:t>Professoras da Sala de Tecnologia Educacion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eila Rosana Bolonhin Barb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ria Aparecida Terenciani Naza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aria de Fátima G. Lima Miglioranç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Sala de Tecnologia Educaciona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 tecnologias vem tendo um importante espaço no processo ensino/aprendizagem, oferecendo uma forma diferente e atrativa de adquirir conhecimen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6720" y="4402080"/>
            <a:ext cx="2398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1440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Nós, professoras da Sala de Tecnologia Educacional da </a:t>
            </a:r>
            <a:r>
              <a:rPr b="1" i="1" lang="pt-BR" sz="3200" spc="-1" strike="noStrike">
                <a:solidFill>
                  <a:srgbClr val="ffffff"/>
                </a:solidFill>
                <a:latin typeface="Comic Sans MS"/>
              </a:rPr>
              <a:t>Escola Estadual Senador Filinto Müller de Angélica</a:t>
            </a: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, propomos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Comic Sans MS"/>
              </a:rPr>
              <a:t>capacitar os profissionais em educação a usar a informática como um meio de melhorar a qualidade do ensino. </a:t>
            </a:r>
            <a:br>
              <a:rPr sz="3200"/>
            </a:br>
            <a:br>
              <a:rPr sz="3200"/>
            </a:br>
            <a:r>
              <a:rPr b="1" lang="pt-BR" sz="32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miliarizar os professores com as ferramentas das tecnologias da informação e da comunicação, oferecendo cursos necessári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pacitar o corpo docente no desenvolvimento de projetos escolares com o uso da informática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ivulgar projetos e pesquisas realizados pelos professore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●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centivar o uso da Sala de Tecnologia Educacional por todo corpo docente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Curso de Capacitaçã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cnologia como Prática Educacional”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360" y="2924280"/>
            <a:ext cx="324468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600"/>
                </a:solidFill>
                <a:latin typeface="Comic Sans MS"/>
              </a:rPr>
              <a:t>O que é o “Toondo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site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ToonDoo permite criar tirinhas e cartoons on-line totalmente personalizados, mesmo que  desenhar não seja uma habilidade do aluno. É uma ferramenta muito </a:t>
            </a: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interessante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e pode ser utilizadas em todas as disciplin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12000" y="4365720"/>
            <a:ext cx="27972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Oferecer a inclusão digital, utilizando a ferramenta Toondoo no sentido de saber operar e dinamizar as aulas dos professores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apacitar os professores para que eles possam capacitar seus alunos utilizando o Laboratório de Informática (ST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372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Divulgar aos professores a importância do acesso às ferramentas tecnológica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Despertar nos professores o interesse pela tecnologia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Promover uma interação maior entre os professores e o computador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Oferecer aos professores uma forma diferente de realizar projeto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· Fazer uso dos conhecimentos adquiridos no projeto para aplicá-lo em aulas diferenciada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Comic Sans MS"/>
              </a:rPr>
              <a:t>Metodologi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O projeto foi realizado na Escola Estadual Senador Filinto Müller, durante o mês de Julho, sob a orientação das professoras da Sala de Tecnologia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imeiramente foi divulgado para o grupo de professores a ferramenta Toondoo com o intuito de que os professores que não estão incluídos digitalmente pudessem ter acesso a essa ferramenta tecnológica 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9:16:07Z</dcterms:created>
  <dc:creator>Leila</dc:creator>
  <dc:description/>
  <dc:language>en-US</dc:language>
  <cp:lastModifiedBy>E.E.Senador Filinto Muller</cp:lastModifiedBy>
  <dcterms:modified xsi:type="dcterms:W3CDTF">2009-07-29T19:43:06Z</dcterms:modified>
  <cp:revision>4</cp:revision>
  <dc:subject/>
  <dc:title>Angélica/MS</dc:title>
</cp:coreProperties>
</file>